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36A-58D0-4BE3-A312-0891F791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DDA9-C886-477A-811D-BB53F6D6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B6EA-3CF2-4C82-813F-438D7FE2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3596-C15D-4704-847F-1EB841B3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79F-14DF-4DCE-9C44-444F6559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D547-EC97-4A5B-A5F8-B5CEE9C2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618E-65DB-44A8-916D-5E2823CD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7FEB-FB53-444D-B253-5C8476B8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9AE-600C-4D3F-AA49-B764448D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825A-B953-4F1D-AE47-8D3FC9B3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9EF-099C-4AD6-A467-F564FB4E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81E-5659-4E47-9435-1127E9D6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9918-0E4C-4BBB-A48A-F656684B5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phophonemic System – Ph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bol systems of oral and written language and the relationship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of written language – orthographic system – how print is orga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ll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ctuation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r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nics – Relationship between phonological and orthographic systems. What readers learn to understand as the complex relationship between how we talk and how language is organized in written tex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S00554_"/>
          <p:cNvPicPr/>
          <p:nvPr/>
        </p:nvPicPr>
        <p:blipFill>
          <a:blip r:embed="rId1"/>
          <a:stretch/>
        </p:blipFill>
        <p:spPr>
          <a:xfrm>
            <a:off x="4876920" y="3048120"/>
            <a:ext cx="2666880" cy="1600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ntic Mea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t of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s between language and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rds and phrases mean and how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tactic System – Gram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 of words, sentences, para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 ord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parts of speech go in a 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we string words together to sound like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al rules of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agmatic System – Language in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into consideration the social, cultural, and historical context of language i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 know about how and when to change language to particular social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your mother there?” (in a phone conversation) – implies “Is your mother at home? I’d like to speak to h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BD07153_"/>
          <p:cNvPicPr/>
          <p:nvPr/>
        </p:nvPicPr>
        <p:blipFill>
          <a:blip r:embed="rId1"/>
          <a:stretch/>
        </p:blipFill>
        <p:spPr>
          <a:xfrm>
            <a:off x="6705720" y="5105520"/>
            <a:ext cx="1143000" cy="12682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22:27:28Z</dcterms:created>
  <dc:creator>College of Education</dc:creator>
  <dc:description/>
  <dc:language>en-US</dc:language>
  <cp:lastModifiedBy>Darci J. Harland</cp:lastModifiedBy>
  <dcterms:modified xsi:type="dcterms:W3CDTF">2009-01-28T18:38:04Z</dcterms:modified>
  <cp:revision>2</cp:revision>
  <dc:subject/>
  <dc:title>Graphophonemic System – Phonics</dc:title>
</cp:coreProperties>
</file>